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applause.wav" ContentType="audio/x-wav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7834-564D-4314-ADDD-2A98C504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131000"/>
            <a:ext cx="90630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193C-7349-40E0-8325-0AE27BBE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131000"/>
            <a:ext cx="44226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131000"/>
            <a:ext cx="44226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A24A-2E1D-4D0F-A157-B67D9D1F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131000"/>
            <a:ext cx="291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131000"/>
            <a:ext cx="291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131000"/>
            <a:ext cx="291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DE57-8977-4006-94BF-AB5E1A2F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6647-46BC-48AE-87DB-28082683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253C-F1DE-4EF5-8634-71A523A3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ACC6-F6A7-4B99-A5AA-96175824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FC1A-F5BE-4752-B411-5B0F29F2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0D45-587D-4158-9F7F-48BFD0D1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3660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6C6E-4A7C-4D9D-BFA4-3DA3F9BB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131000"/>
            <a:ext cx="44226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90AB-B881-46C6-B02C-FCD82E17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4704-A27E-4C97-A2BD-1C24595D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6920" y="4131000"/>
            <a:ext cx="44226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55FF-BFB0-4C5A-8A3D-7BA37492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131000"/>
            <a:ext cx="90630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420D-FF33-405F-9A41-E6798BF0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131000"/>
            <a:ext cx="90630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FB9B-C3D6-4541-B1F7-D8F2A361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131000"/>
            <a:ext cx="44226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6920" y="4131000"/>
            <a:ext cx="44226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73E1-A7F5-497D-A6E9-CDCD4FCC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131000"/>
            <a:ext cx="291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7240" y="4131000"/>
            <a:ext cx="291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1920" y="4131000"/>
            <a:ext cx="291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8828-8D7C-44B4-AEA7-F77A51F9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58315-5BA2-4C3B-A812-F84D4804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CBA85-6529-43B0-9583-02506145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4FD97-4F75-4E6D-9071-CABC141F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465BE-2136-47E4-B9C4-14C48BE3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A5ECC-A488-4680-BD8F-C0C2B217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2695-DB84-4E19-94CB-E1238150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33660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95FCB-4385-4A48-A1DB-26D07251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131000"/>
            <a:ext cx="44226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CB988-2D9C-491E-8DBB-E45263E6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6920" y="4131000"/>
            <a:ext cx="44226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262E6-9603-429F-8CFB-B7635349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131000"/>
            <a:ext cx="90630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8A5F2-D4CA-4732-9BEE-213B166A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131000"/>
            <a:ext cx="90630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34D51-267A-437D-8B55-7A125478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131000"/>
            <a:ext cx="44226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6920" y="4131000"/>
            <a:ext cx="44226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764E7-1536-439E-AAE7-4A0A2DA7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131000"/>
            <a:ext cx="291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7240" y="4131000"/>
            <a:ext cx="291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1920" y="4131000"/>
            <a:ext cx="291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FDCC6-E3EF-43D6-AAAD-A566049D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74DC-101B-4F5E-9D51-B359723C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C1BD-7AE2-4D37-B77A-C57CFE93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3660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CD0A-8925-4E7E-AE67-576BB7AF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131000"/>
            <a:ext cx="44226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61EA-BD04-4541-9AEF-455EFB51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131000"/>
            <a:ext cx="44226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215D-9BCD-44DF-8DC7-7D9C2D78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131000"/>
            <a:ext cx="90630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B715-B2E8-4C76-878D-EC872A47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D600A-3121-4EE4-999A-E6A455BCC3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360" y="372960"/>
            <a:ext cx="93470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9280" y="2518920"/>
            <a:ext cx="902340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58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335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5880" indent="-335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5880" indent="-335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5880" indent="-335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5880" indent="-335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5880" indent="-335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703080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703080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360" y="703080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77321-FDBF-44B6-B687-0DA75A0C49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3280" y="667080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7720" y="6670800"/>
            <a:ext cx="31878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67080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5724A-7A47-4A1D-B109-062D10F68D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hyperlink" Target="http://www.school.eb.com/elementary/search?query=Tundra.%20Web.%2030%20Apr.%202013" TargetMode="External"/><Relationship Id="rId5" Type="http://schemas.openxmlformats.org/officeDocument/2006/relationships/image" Target="../media/image11.png"/><Relationship Id="rId6" Type="http://schemas.openxmlformats.org/officeDocument/2006/relationships/hyperlink" Target="http://therainforestaworldbiome.weebly.com/food-chain.html.%20Web.%2030%20Apr.%202013." TargetMode="External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02920" y="1814400"/>
            <a:ext cx="90709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-331920" algn="ctr">
              <a:lnSpc>
                <a:spcPct val="93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: Adaj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228600"/>
            <a:ext cx="9144000" cy="13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64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The great Tundra</a:t>
            </a:r>
            <a:endParaRPr b="0" lang="en-US" sz="1800" spc="-1" strike="noStrike">
              <a:ln w="64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push dir="l"/>
    <p:sndAc>
      <p:stSnd>
        <p:snd r:embed="rId4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0" y="4343400"/>
            <a:ext cx="181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28600" y="685800"/>
            <a:ext cx="96012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d this will blow your mind for sure!!!!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314440"/>
            <a:ext cx="937260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There are no trees in tundra!!!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0" y="4114800"/>
            <a:ext cx="10080720" cy="34448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-228600"/>
            <a:ext cx="10080720" cy="66294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flipH="1" flipV="1">
            <a:off x="3417480" y="1817640"/>
            <a:ext cx="1622520" cy="5051520"/>
          </a:xfrm>
          <a:prstGeom prst="line">
            <a:avLst/>
          </a:prstGeom>
          <a:ln w="93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57360" y="6629400"/>
            <a:ext cx="71294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rrow's are pointing to the dark green which is Tund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962440" y="1590840"/>
            <a:ext cx="1390320" cy="3219120"/>
          </a:xfrm>
          <a:prstGeom prst="line">
            <a:avLst/>
          </a:prstGeom>
          <a:ln w="9360">
            <a:solidFill>
              <a:srgbClr val="ffff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886200" y="1593360"/>
            <a:ext cx="457200" cy="1613160"/>
          </a:xfrm>
          <a:prstGeom prst="line">
            <a:avLst/>
          </a:prstGeom>
          <a:ln w="93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252360"/>
            <a:ext cx="4191120" cy="662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This is where I got my picture for the map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3760" y="957240"/>
            <a:ext cx="7935840" cy="41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This is my site were i got my picture of the animals form and the tundra 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623960"/>
            <a:ext cx="4452840" cy="433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This is were i got the food web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71240" y="342720"/>
            <a:ext cx="93582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s a biome and whats a ecosystem and whats the difference is between eac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39640" y="2563920"/>
            <a:ext cx="9034560" cy="41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's a biome you may ask. Well a biome is a home for for animals like a habitat. But if you do a ecosystem it would have to be about a animal the and where it liv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0360" y="372960"/>
            <a:ext cx="93600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enjoy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539640" y="2565000"/>
            <a:ext cx="90360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now enjoy some pictures of the anima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425160"/>
            <a:ext cx="90662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03280" y="1857240"/>
            <a:ext cx="906624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38088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Artic wolf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3280" y="1901880"/>
            <a:ext cx="906768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100584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887560" y="457200"/>
            <a:ext cx="51134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little about Tund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7240" y="2514600"/>
            <a:ext cx="274176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undra is a large re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t is a cool and dry place. So if you are looking for a cool and dry place Tundra is your pla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514600" y="457200"/>
            <a:ext cx="4343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ood web for Tund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10058400" cy="6645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H="1">
            <a:off x="6399360" y="3657600"/>
            <a:ext cx="1374480" cy="20574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057400" y="685800"/>
            <a:ext cx="36957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would happen i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17:18:40Z</dcterms:created>
  <dc:creator/>
  <dc:description/>
  <dc:language>en-US</dc:language>
  <cp:lastModifiedBy/>
  <cp:revision>1</cp:revision>
  <dc:subject/>
  <dc:title/>
</cp:coreProperties>
</file>